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CF3-5636-4787-BB0C-522F6160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C0C-30BD-42F3-B4CD-15655B94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2990F-4ECE-477B-B762-FE3FD50F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26C41-EDB8-467B-969A-C517E30C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D783B-2C38-45BC-BDB8-EDE7D952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CE07B-3303-4426-A24A-4CC7B1A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4C10C-21C6-4472-B924-E528E0E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289F9-1755-4686-977F-DC2B8F2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6414C-5B11-4B09-BB53-838F7559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636A1-9BBB-49A8-84F1-6ACB9169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9478C-197F-455E-8486-D9188D50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30F8A-3D4C-45B8-87EA-F480009B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0FA-DC40-4876-8317-576AF5BA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172BE-D4AE-4F6E-A425-853FA8FD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42084-6292-4548-ADC1-B95F4E8D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42204-462F-4545-A75F-BC2A88E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4FD23-CBCA-413F-8D83-A56D43B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D2995-A6F7-447A-9936-B4148A22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243CC-6C26-4DE0-AA79-351AFE3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44695-FBAC-4872-99DC-7515AAA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602F0-8707-4B3E-8171-FBFCCE1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136E8-631E-46AC-A9BF-62B4EED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AD766-30CB-43AE-988F-647E28D0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49B-FB95-4E26-98EA-759A808A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E4256-1091-4B34-9318-50FF2A72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2FB9E-5C7B-4D91-A353-5CAD2887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1AA4-A6A4-4FFC-8C4C-16E956B3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44293-0549-45C8-9599-50ACF56C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0412-6D5B-4FB2-9C85-9398A07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95299-918C-4C9F-9201-4A4F640D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A1E5A-8C2D-4342-B255-91E4456E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7CE4C-831C-4172-B045-160F2BAB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09299-4F91-423F-ABCB-AA0C42DD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87E77-0870-4364-B336-669267D2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D462-6092-4777-87A0-6D3D5D7B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7E449-BBC7-46BA-A92E-9659BF0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0F5E8-3D0F-4C72-A78E-84A64D74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B2006-543D-488E-93EC-265D08BF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8373A-2971-499A-9903-FCD5D739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EFD6B-F826-4116-AB70-3808926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0DF8C-46B0-4DE4-B817-E0374C55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43C34-AED2-42FC-B996-D0831031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2C1D2-AB49-4735-8B04-EDD02A55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4AC62-BA5D-4FCA-872F-C3F4B15D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5B581-DA54-46AF-AAAE-8C0C338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13CA-7662-402E-B09E-C8658B38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A07DD-A6C2-4359-876D-3B080E6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A0C84-E165-4204-8CAF-DA2A783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BEBD0-D2F8-4C2D-864F-A24AFCDF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4133B-5CD8-4A93-A251-0B94CB4C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BEAED-5556-4E94-BE4E-8DE7E9F1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BB9E5-4247-42FF-A38B-3826E5D2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E7171-6A1D-4CE7-A7AE-68885599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02475-EB09-4D2B-BA16-EAF873EB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40786-315D-4FAF-ABFE-9D135805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C89AA-4174-4DB9-814E-E1178E8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5BB9-9FA5-454D-A974-6BFDAF8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8A425-27F0-4F89-A08B-5946812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914CF-8446-4F64-984A-A643E1E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B115E-E351-4A84-98A2-ECF2475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602B5-D1F0-4125-BC7D-6A2D280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89A3D-DD5E-4511-97B2-871F24FA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A4965-B8D9-494F-B1A3-CDBA57DC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25745-28F4-4E28-9BEF-9B951F17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93285-18E3-405D-9F6C-E28B02B5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3C91B-9EB7-4A57-817A-6E640AAD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29420-A0A5-4B54-BE56-E8E62CBA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A0AE-AA70-4CDF-9027-C9D7A6D6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98A61-D4CA-49C4-A2B2-B1EAEF92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B3FF3-9825-4AF8-A0E1-B0E52253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D7C27-1F0B-4A69-AB7C-3634260B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2ACE4-6751-44A7-904F-44EE22C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B5202-BE0D-42C0-92E4-05E74DCA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7E195-21DA-4EAA-BBBE-86ACE27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FAC7E-4479-4683-91E3-77494350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885B4-CB39-475F-AD9C-21BED1A9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54F66-B604-4F5F-A66C-AA5E75B1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47BC2-1242-410F-903C-399092E9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248D-E7DF-419C-BB0B-FAF4769E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F39C0-8649-4450-BCD4-4C1A0D7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7DC61-A9FB-4C0A-BDF5-6EF4A155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6B2B7-0BF5-4E61-88C2-D870C2C4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7B1D1-E962-44AB-871C-40943F4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AE947-6121-44C2-9DE4-E997652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B4754-7D3F-4753-9B53-013C59F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28BFD-500A-4B39-9472-A30383C2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85EFD-DC3A-4585-BE4D-77B03FFC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5F1BC-E05F-4A40-8D20-C8AD9E55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86042-5496-4345-A3BB-407BE0D1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D429-05A5-4A80-BBF9-67133BB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5D43A-E3ED-45CC-8BBA-A76526D5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58B21-2607-457C-A950-1202F3A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D9CFE-AA4C-43F0-B66F-532DB55B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C5163-4A60-45BF-AC29-6C03669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D4D45-FEC5-4ED5-A85C-98230D9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05E5B-D6AD-4AC2-825A-4AAA5E3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04C5A-BF3B-4FA3-BBC0-713E4402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C2373-D291-4799-8EE9-A85F6AE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84985-DC01-4688-940D-6D9115F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58FD7-EB4F-4150-AE74-21146E6D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A5A9-A073-4A1C-B020-8468133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650DF5-5028-401E-91E0-F7CD592B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70196-A33E-41F8-9295-666165BE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B2AAA-9952-42D3-B058-7B536DA1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D7F64-A0C7-4907-B47A-77D00939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37358-EFE2-47AB-B07D-51C144DE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B6955-1B3C-4583-9285-10D8DBA4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CFE20-338C-4DAA-8DD4-81C58AE0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95A74-3F98-499E-9FF7-21F9FF62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FAE39-F5E1-43D7-BA9E-87933D7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40E7A-E4F3-42D1-98FD-5B6316A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E28-D443-4015-8687-9FADDEBB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9934-196F-4733-84F9-F67A4E9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E5F4F-34AD-4CAB-8723-1C44488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F5D9D-DEA3-4210-BA9A-BFF4996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03EEF-E64B-4750-B467-5768867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25176-F10E-4ECC-A83E-8132039C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39B71-B308-4359-A455-E99E271D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9F608-75A9-45B1-8A19-B755A815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62603-C145-4FEA-95EE-E51E655C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0A5F1-7FC2-4907-BBC2-9989FBAF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8A1E0-09E8-4789-9373-B71D86E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9E82B-8E28-4734-AB22-865F60F1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BA38-A461-45A6-83A2-B85985A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C9003-8F5B-4186-B719-A5C7D140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EF0AD-FA35-41FA-A3C4-F5414BAE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31494-7FBA-43DF-B4D6-B1A06604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554F9-FBAF-4557-A278-64E408C7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BC9F2-A8D2-4DD7-91CC-5B45EDE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65880-067F-44D6-B88C-4BF75E9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CF28F-3740-4051-8A8E-97F65937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56012-50A6-4309-A69E-C905BB26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53909-9B50-46B6-9640-057EBE5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A18F7-5A78-4B7C-B8C0-4C42D9DD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4030-9AD7-4311-86A0-A3F0C133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72525-569C-4841-AB60-40117EA7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8BA79-EAFC-4D41-A8C6-7FCBE97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162C6-87CC-4DFF-BEAA-5B4C51A9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0FF69-78A6-4DAF-95F5-A62FE44B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14E59-1A38-431B-963C-9FDE150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374D3-7BE6-4909-80C4-37644C7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1D80F-D4A7-4AE5-BF43-F1BFFD6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62C25-2280-494D-90BA-2615C117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ADAE9C-494D-42E4-A2B7-5FE9F79A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F7552-97B1-4E56-BE21-1BF98C34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001D-367E-4DF5-A1DF-4EBC3666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E05E4-24E3-427D-A5F1-C7B45942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8CBBD-4D6B-4FDC-93B7-4B34FB4C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553861-B014-44E2-B854-B91DAF19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063DA-6DA0-47E2-988A-14687C0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AC393-293D-49FA-837E-10648EF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8CCEB-CF64-40F1-943B-0699A4C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4E4C9-FBD9-4D23-8441-6414695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02752-7969-406B-BD5A-6437C09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935F59-E768-4A00-A9BC-A16A05F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5980B-CD15-4ECE-BFF9-B42249E2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26DA-0B31-4BF0-A2C5-A1BA5306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E44D8-17A1-4968-AAF1-98B606D6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AEDADB-5F5D-473A-90BF-E21C98A5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BFD0D-2B7B-4B38-AC16-3AF0EBFB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9F6DC-0D72-421A-8842-B2048BCC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7F3A7C-4B55-40A9-B96D-1981630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C66DA-76D5-4410-B2AD-B061DC0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411CE-2AA0-4BAF-9C1A-60E1EC9E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65316-2C70-4265-9ACB-6EF117C3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8859B-1CDE-485C-AA8B-2F4FB80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EDCC9-3D8F-414B-A710-5AE5BD06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EF54-9B42-4D9E-9778-C3DB8D16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5C346-DFEE-493F-9E2D-21278B20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C0D9F-569C-430C-9615-DF6C07A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DF022-E2EA-4B30-9269-1F32D4F0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843B-569D-4716-B79C-D85BA323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26D1-FB2B-4370-8548-909003E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00C7-4655-4F15-BCBA-B4734DB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10C0-E936-426E-B8D8-6E2BBCF4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0AB-530F-444A-B6B3-A996F16A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44C9-4883-46ED-B5D9-8A7C2043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8FDF-D6B8-4705-A76B-C4FDC1C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15D9-D1ED-4BCA-B686-8F0339F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6DC4-6B4A-413F-BE7A-49C848C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F736-A7D3-4EC3-A15A-6EA513CC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2123-CDBE-4D58-90E3-B0EC984C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194B-5E41-4B71-B61D-84C444B2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8D70-E584-44D1-A647-661E5A67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75A0-10CE-4682-AA48-C151DDA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B090-C586-4A59-8811-999F1C55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10A-7C42-4575-BB90-D63F1A24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20B8-BD77-4ED0-B6C8-39388BBB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2A3D-7371-4E3C-B02E-35F3E6B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F215-3B37-41C6-B3D3-5C2DF41B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18CE-DFE2-419D-A29A-150EBC4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12F1-5A6B-4411-B700-740C9301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4757-27E0-4495-9C37-ED6287DA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878E-3BB2-478B-98A6-CDC0174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EDBA-5E55-48DD-9849-9C10007E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68809-1785-474F-8629-7E1A2454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64951-80D3-47E1-B8CE-A109644C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628-0727-475E-ACC0-38A8F618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6C23-9177-4732-A404-CEFD8D8E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E1D6-3CE8-447B-B70B-C02048DB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A33D-6822-43D1-95D2-33FA94A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D14C3-3AFA-4A74-9F74-4E9BF5FB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BFD2C-58BA-429D-AECB-63CBF786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E720C-5445-4AFB-ABFA-F5D8842C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C437-8326-4662-A750-4525C36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8098-66F5-4746-8E28-BA7E8B49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B44B-21B5-4F1B-B654-BEB401B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45AD-7C82-4EDC-BD63-E7CC0FA9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596-D806-4DB5-A54C-2F99EC4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7E3D-F94B-42CD-B3C4-89C946F6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8D81-02A2-4A9B-99DA-A9C01329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5955-C4B7-4E8E-87E2-F1778E5E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799F-9887-46AC-8042-25130B3C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29D8-5E47-42DB-9DF0-6053CFB5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46C6-529B-46F4-B0C6-431298C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126C2-8E32-49DB-8A86-C6E27AD9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E7E87-AD21-4664-969B-BEFBFADA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651C-4C5E-4A31-8A3D-2D2CF21B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5C5A-CA96-46E5-B54A-5F73469F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BC0-FE1B-436C-B2A1-90DC3E41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5E6FC-22E4-49C3-8511-B91263B8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26EB-4ED5-45DB-BEE0-86EA8D42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BA713-FF1B-4651-B830-A94ADB38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3EB1-8A44-4C56-881E-6CC568A7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1987E-8C42-4D3A-9BB5-3D68AC4D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0D9B6-8119-4086-BA9F-EA1EBCC4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9599F-3CB6-4A2F-8783-28A47DB6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94F40-5923-4101-95C6-20056961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40C0-94AA-4BD2-B56E-1060842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2DF58-6D10-4990-B6CF-B5FC8D4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002-048A-4B54-B71A-302C869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4E97-AE18-4ACB-BFAD-908A7E7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FF68-8835-45B1-9D52-68C002D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F723E-FB63-4D8C-AD66-22BFC9C1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2C9C7-A651-4F67-9A05-D0E013D6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3620E-3286-4951-8ED9-D451BF98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AE14-D3C1-4D0E-A947-9E0A31B3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A9656-B735-49FD-9E83-D89C1F2A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5CA6-3373-401F-A340-DEA94E68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265BB-48BB-4D5A-86CB-3D6DA49C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0279-3568-4D36-9102-12D53EA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7B0-4C97-4189-8569-F9409C9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DD51-7A87-4CEF-8CCB-636D6043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7B6E-E196-460F-A785-24BC667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84F79-F266-45DD-8DA5-82C16CDF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E95C-24F0-4DD8-A068-40F4937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71DF-C6C1-452A-8644-21B4284C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E7012-614C-45E3-ACC6-0B24958B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0AB2C-5225-46C3-9959-B39DB07A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75D50-4BE1-44F8-9B32-45524A2D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65C8-02CD-4042-A3E8-22E21A5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987B5-A0C9-4527-B061-3D43B26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57C7-A9EA-482D-85F4-936DA749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D360-0AED-442E-A1A4-8ABDCB926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A70D-F95A-47A1-902D-8B8A048413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08DE-B864-4BB5-8BB4-DD6412E797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8E1-477E-4E06-9BFF-A263A8B79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E8A-F800-4E4B-80CC-3AE49A345F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BAD4-7EA8-4699-9291-34A4D2A3CA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9506-A554-466B-AB82-37CED56C87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D200-DDD1-4E48-A280-8D844107E8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DA50-A938-4676-9E43-71CCB852A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81D-CC2F-4F31-9DCD-05808FFFFE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AF4-3F75-471D-9442-8B9F2F36F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2FAC-D278-41D6-8E2B-A52A05A862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6274-FEEF-4464-9E68-A1E60D8B9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222B-3A88-4833-8CD0-376EB25D40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E9FF-A6F5-4C6B-8DCC-FDF4F13E1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E4C0-D087-4636-B0C8-A02B401A60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D8B-3405-4585-BB0E-607A70550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79D9-9402-49FD-991A-BF5914221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F69-0A11-4A3B-B631-C623BA2CDE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C37F-B27F-41E6-B911-6747DAD066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6A7-8FD9-4A6F-AC4E-7417AE36D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3D89-DC10-44D6-9B5C-288E66FFB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4192-D202-4F50-88CB-1A8A71A63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EF0F-12ED-4063-BB9F-50C5CE548B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33A0-0C56-4847-BEB2-B934D7A43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36B2-6151-4554-9659-EAA6F3BB9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6E8D-A4B7-4163-9915-283DBE177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114F-4AFD-4CC9-9627-98D170BA97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EFB3-75DF-4F29-A1B6-CDF70CD4B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E1C2-6746-4B97-8D72-8BC564C30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0A52-F152-4C8B-B33A-D24126F0F0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7B95-EF2D-41EF-9FF0-0E31A96847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6196-37BF-4161-9C0D-B968DA819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9313-D562-4CAD-B4CA-73CDCB94E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22A0-B329-4A3A-BCAA-2EA4BBCD9A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EE0C-857B-4DC1-9957-5BE91DB92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F90-2FB6-4E01-8292-43ACA44229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613-8FD8-40AF-A144-720A87765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4D29-F21F-4186-BCC4-DD09CD887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886120" y="3076560"/>
            <a:ext cx="33717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52440" y="1085760"/>
            <a:ext cx="8439120" cy="5200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4500720" y="267336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1039680" y="31240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4857840" y="4051440"/>
            <a:ext cx="1214280" cy="368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7215120" y="40514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4214880" y="496872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6643800" y="49291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1214280" y="5429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2928960" y="5429160"/>
            <a:ext cx="1357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352440" y="800280"/>
            <a:ext cx="8439120" cy="5914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1857240" y="1766880"/>
            <a:ext cx="57150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1214280" y="2674800"/>
            <a:ext cx="250056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4"/>
          <a:stretch/>
        </p:blipFill>
        <p:spPr>
          <a:xfrm>
            <a:off x="928800" y="36133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5"/>
          <a:stretch/>
        </p:blipFill>
        <p:spPr>
          <a:xfrm>
            <a:off x="5000760" y="4071960"/>
            <a:ext cx="2857320" cy="368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6"/>
          <a:stretch/>
        </p:blipFill>
        <p:spPr>
          <a:xfrm>
            <a:off x="949320" y="4981680"/>
            <a:ext cx="3571920" cy="368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7"/>
          <a:stretch/>
        </p:blipFill>
        <p:spPr>
          <a:xfrm>
            <a:off x="7715160" y="5438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8"/>
          <a:stretch/>
        </p:blipFill>
        <p:spPr>
          <a:xfrm>
            <a:off x="357120" y="5910120"/>
            <a:ext cx="47865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33360" y="1028880"/>
            <a:ext cx="8524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1857240" y="1052640"/>
            <a:ext cx="707256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214200" y="1486080"/>
            <a:ext cx="877572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299880" y="1004760"/>
            <a:ext cx="8544240" cy="5496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3051000" y="2398680"/>
            <a:ext cx="5846760" cy="3826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214200" y="33163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214200" y="377208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214200" y="42307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7"/>
          <a:stretch/>
        </p:blipFill>
        <p:spPr>
          <a:xfrm>
            <a:off x="214200" y="46893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8"/>
          <a:stretch/>
        </p:blipFill>
        <p:spPr>
          <a:xfrm>
            <a:off x="214200" y="514980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9"/>
          <a:stretch/>
        </p:blipFill>
        <p:spPr>
          <a:xfrm>
            <a:off x="214200" y="56037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10"/>
          <a:stretch/>
        </p:blipFill>
        <p:spPr>
          <a:xfrm>
            <a:off x="214200" y="6058080"/>
            <a:ext cx="877572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67920" cy="22575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214200" y="83664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214200" y="129708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14200" y="1755720"/>
            <a:ext cx="8775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4:34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